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7870-E927-4FFF-904B-291EC2F7B2FB}" type="slidenum">
              <a:rPr b="0" lang="en-N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Whole class active engage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apitalizing on Cultur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mbs up and dow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4942-771F-44A5-965C-27B5BC6AF0D6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84E6-6175-4A42-94F5-5FEA4A067ED1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 to give out random selection cards for group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give out roles: noise controller, materials manager, organizer, rec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WO activities and get them starte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BEB0-930D-430F-B2E9-84664AEEDBEC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4150-3A45-499D-A9F0-8BD677016FB2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244D-080C-4A4C-A544-A22D433EF3FD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D4F4-8999-47D7-9009-DCB8A1C391E3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y Such a Focus on active engagement and cutlural capital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we know is effectiveness is far from simple:  many things are interrelated in a classroom to make it effecitv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focus of late has been: curriculum – writing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eracy leadership team confident that writing curriculum is going well……but da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 still not show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shift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( Ferguson, 1991)tells us tha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ing is the most important element of successful learning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ling-Hammond, L.)THAT is,  WHAT THWE TEACHER IS DOING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e also know that what a studetns/whanu bring is also significant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try and feed into our understandings of both of these interrelated components this year ALONGSIDE our growing writing knowled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 AND SHARE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at does a culturally responsive teacher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at do active engaged learners look like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DAY JUST GOING TO LOOK AT ‘ACTIVE LEARNER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ow might you use this ‘stand and share ‘ structure in your class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YOU TO TAKE  A SEAT AND LISTEN NOW…. IM GOING TO DO A CHALK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CEAB-24EC-41FF-9ECB-F1A81EFBCD97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889-BC2B-48FE-B576-1E9638AEBE1B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lets define i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1EA9-62CD-4AF6-B661-6264E9DEDCB9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ctive engagement help our students understandings and social ski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note on motivation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B661-BB13-4EA4-9BC1-D2E55D159CCB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/P/S- think about what you have he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 up with someone near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your thou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rule:  share two things….each one from a different perspective (with a different hat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k ending….. Good simple technique to minimize teacher tal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B0E-C9B6-4A15-8281-832D495DDE45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9126-1E18-4C09-AB75-679D37A5C9E0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ow….. We know what ACTIVE LEARNING  is and how it supports thinking and social skill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IT LOOK LIKE?  JULIE TO GOVE OUT RANDOM CARDS…. Sit in group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623-80F8-447D-BF76-24C4B684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711-893C-46CB-8077-EDBD4DC1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6C3-5BAC-4800-A1B0-8FF12F5F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6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02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70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36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02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B38-33B4-459F-A75D-3196343E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F354-D0CF-49EC-A839-1A0EF7BF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FD8F-B20F-49F2-839A-7C27408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B9AF-203E-44E2-9BF4-E42A5440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0B97-7526-4962-A8B7-18104E35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0FC3-ABAE-45A5-A229-91A79C6F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7000" y="1699920"/>
            <a:ext cx="79167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180A-E767-4E89-8909-9FA94361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CE97-201B-4D6F-98CB-0645648C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5F2-E2F2-4DC6-ADC5-55B93D45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00FD-34DF-4B02-AF13-D42F6B1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ADCA-BEDD-4BD9-87E1-95F5151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EB07-C05C-433A-9BCF-D6072BC7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4FA3-FBC5-43AB-997D-E0FAC9D5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36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02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70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36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02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8D75-304A-43CD-AB7C-751355EE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FD668-B504-4DFF-A335-7F0C5F67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9A14-62D3-4787-80DC-8C035062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EBED-38DA-4B51-9674-22F87D42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F987-400B-4923-81FF-28B52BA2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A151-3188-4D36-A40F-E255742C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0DB-6370-4BFE-AF4A-8859E47B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57000" y="1699920"/>
            <a:ext cx="79167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8406-1B99-4E81-A92E-E5C7BE6E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EEFC-51DB-4914-B3D9-4CAD9213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86B2-8E39-468E-BB58-D2945E8C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C7E6-F558-46F0-9479-1A07C99B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463C7-A9D6-4458-ACFC-5BC8692C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FB87-EFB3-4086-8D6F-6D04AB64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36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02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570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36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02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5C7C-31D7-4E47-B50D-D4243EE8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0F1-E0B8-49DE-89FE-36F4AFB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197-A639-4934-B512-59FA683C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7000" y="1699920"/>
            <a:ext cx="79167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A23-FF82-4B71-BCBC-12D82F0D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D51-2ECE-4C31-8FCF-4227913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784-8ECF-4DC6-AF65-40A7762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058-EA75-405E-A4ED-F357DFBC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owerpoint-interior-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1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2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3" marL="343080" indent="-343080">
              <a:spcBef>
                <a:spcPts val="689"/>
              </a:spcBef>
              <a:buClr>
                <a:srgbClr val="545454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4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5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6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C54C-8115-49B7-A598-2536F862DA88}" type="slidenum">
              <a:rPr b="0" lang="en-N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owerpoint-interior-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7000" y="2212920"/>
            <a:ext cx="791676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1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2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3" marL="343080" indent="-343080">
              <a:spcBef>
                <a:spcPts val="689"/>
              </a:spcBef>
              <a:buClr>
                <a:srgbClr val="545454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4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5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6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6652-79A7-40A2-BEA7-E7B5F6A3D184}" type="slidenum">
              <a:rPr b="0" lang="en-N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Powerpoint-Title-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1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2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3" marL="343080" indent="-343080">
              <a:spcBef>
                <a:spcPts val="689"/>
              </a:spcBef>
              <a:buClr>
                <a:srgbClr val="545454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4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5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6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0D6B-B74A-40CE-B7AA-A4FC01890D35}" type="slidenum">
              <a:rPr b="0" lang="en-NZ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1640" y="1916280"/>
            <a:ext cx="7242120" cy="345744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Tell me, </a:t>
            </a: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I forget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Show me,</a:t>
            </a: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I remembe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Involve me,</a:t>
            </a: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I understand.</a:t>
            </a:r>
            <a:br>
              <a:rPr sz="2000"/>
            </a:b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de7008"/>
                </a:solidFill>
                <a:latin typeface="Arial"/>
              </a:rPr>
              <a:t>-Ancient Chinese Proverb</a:t>
            </a:r>
            <a:br>
              <a:rPr sz="1600"/>
            </a:br>
            <a:endParaRPr b="0" lang="en-US" sz="1600" spc="-1" strike="noStrike">
              <a:solidFill>
                <a:srgbClr val="de70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Learning Intention :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57000" y="2212920"/>
            <a:ext cx="7916760" cy="22240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/>
          </a:bodyPr>
          <a:p>
            <a:pPr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o add to our practice knowledge of what </a:t>
            </a: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active engagement </a:t>
            </a: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in learning looks and sounds like through the coop learning approach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630360" y="4437000"/>
            <a:ext cx="79167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  <a:ea typeface="Arial"/>
              </a:rPr>
              <a:t>Success Criteria: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  <a:ea typeface="Arial"/>
              </a:rPr>
              <a:t>Within your groups of four please write down:  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  <a:ea typeface="Arial"/>
              </a:rPr>
              <a:t>2 academic success criteria for your group and one socia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  <a:ea typeface="Arial"/>
              </a:rPr>
              <a:t>Write down on a post it note your own personal s/c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1461600"/>
            <a:ext cx="7917120" cy="4762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FINAL WORD ACTIVITY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1937880"/>
            <a:ext cx="8424720" cy="35449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 fontScale="88000"/>
          </a:bodyPr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Read article quietly as an individual in your group of four. Take approx 15 minutes to do this.   Highlight and take notes as you go…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Choose just 2-3 items to share.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Person one shares their item, “My choice reads…” Do not share your thinking about the item at this stage.  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Each team member then comments in a round- robin about the item, with no cross talking..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When all have commented the persons who named item gets the final word- they paraphrase back key ideas or trends heard and share their own thinking and why they chose it. 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PATTERN REPEATS UNTIL TIME RUNS OUT and all have had at least one turn!  You have only 40 mins in total!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7000" y="1461600"/>
            <a:ext cx="7916760" cy="4762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7008"/>
                </a:solidFill>
                <a:latin typeface="Arial"/>
              </a:rPr>
              <a:t>WRITING PLANNING ACTIVITY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57000" y="2212920"/>
            <a:ext cx="7916760" cy="36640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1.  In your same groups: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*  Chose one class level and one  focus group of students ( from earlier today perhaps) and plan a writing lesson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2.  AT THE END YOU WILL BE ASKED TO SHARE BACK THE LESSON .  BE PREPARED TO </a:t>
            </a: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BE SUCCINCT </a:t>
            </a: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&amp; COMMENT ON </a:t>
            </a: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WHY</a:t>
            </a: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 YOU HAVE INCLUDED CERTAIN INSTRUCTIONAL STRATEGIES…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2864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In your groups discuss the SC and how well you did collectively as a group.  As well as this think and discuss next steps.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Each individual also shares their SC and how well they felt they did and their possible next steps. 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As a group be ready to share ONE: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2" marL="378000">
              <a:spcBef>
                <a:spcPts val="374"/>
              </a:spcBef>
              <a:buClr>
                <a:srgbClr val="5454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Positive or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2" marL="378000">
              <a:spcBef>
                <a:spcPts val="374"/>
              </a:spcBef>
              <a:buClr>
                <a:srgbClr val="5454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Minus or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2" marL="378000">
              <a:spcBef>
                <a:spcPts val="374"/>
              </a:spcBef>
              <a:buClr>
                <a:srgbClr val="5454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Interesting,  about your learning's around active engagement…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9965-318B-4695-B524-D53511871898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913480" y="2286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54"/>
                </a:solidFill>
                <a:latin typeface="Arial"/>
                <a:ea typeface="Arial"/>
              </a:rPr>
              <a:t>Reflections…..</a:t>
            </a:r>
            <a:endParaRPr b="0" lang="en-US" sz="40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104320" cy="260856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Teaching &amp; Learning Outcomes in Writing 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btopic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 Whole class active engageme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Capitalizing on Cultural Capital</a:t>
            </a:r>
            <a:endParaRPr b="0" lang="en-US" sz="3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55280" y="4652640"/>
            <a:ext cx="7426440" cy="48420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ARNING MEDIA- Angela Millar and Julie Beatie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7000" y="1690560"/>
            <a:ext cx="7916760" cy="4780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7008"/>
                </a:solidFill>
                <a:latin typeface="Arial"/>
              </a:rPr>
              <a:t>Ecological Model of Effectiveness</a:t>
            </a:r>
            <a:endParaRPr b="0" lang="en-US" sz="2800" spc="-1" strike="noStrike">
              <a:solidFill>
                <a:srgbClr val="de7008"/>
              </a:solidFill>
              <a:latin typeface="Arial"/>
            </a:endParaRPr>
          </a:p>
        </p:txBody>
      </p:sp>
      <p:pic>
        <p:nvPicPr>
          <p:cNvPr id="137" name="Diagram 2" descr=""/>
          <p:cNvPicPr/>
          <p:nvPr/>
        </p:nvPicPr>
        <p:blipFill>
          <a:blip r:embed="rId1"/>
          <a:stretch/>
        </p:blipFill>
        <p:spPr>
          <a:xfrm>
            <a:off x="1352520" y="2176560"/>
            <a:ext cx="5913360" cy="2913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826920" y="5127480"/>
            <a:ext cx="77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“…</a:t>
            </a: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.identify </a:t>
            </a:r>
            <a:r>
              <a:rPr b="1" lang="en-US" sz="1800" spc="-1" strike="noStrike">
                <a:solidFill>
                  <a:srgbClr val="545454"/>
                </a:solidFill>
                <a:latin typeface="Arial"/>
              </a:rPr>
              <a:t>mismatches between students’ learning needs and the instructional environment </a:t>
            </a: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and to develop responsive </a:t>
            </a:r>
            <a:r>
              <a:rPr b="1" lang="en-US" sz="1800" spc="-1" strike="noStrike">
                <a:solidFill>
                  <a:srgbClr val="545454"/>
                </a:solidFill>
                <a:latin typeface="Arial"/>
              </a:rPr>
              <a:t>interventions based on evidence-based teaching practices (</a:t>
            </a: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Ysseldyke &amp; Christensen, 1993)…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538D-B99B-4A79-A6BC-EF17415C0D78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What is Active Engagement?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Active engagement refers to the joint functioning of motivation, conceptual knowledge, cognitive strategies, and social interactions in literacy activities.</a:t>
            </a: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(Guthrie &amp; Anderson, 1999)</a:t>
            </a:r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04920" y="44953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 fontScale="98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Active learning involves providing opportunities for students to meaningfully talk and listen, write, read, and reflect on the content, ideas, issues and concerns of an academic subject.</a:t>
            </a: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(Meyers &amp; Jones, 1993)</a:t>
            </a:r>
            <a:endParaRPr b="0" lang="en-US" sz="1200" spc="-1" strike="noStrike">
              <a:solidFill>
                <a:srgbClr val="54545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91600" y="1774800"/>
            <a:ext cx="8394840" cy="10000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 fontScale="79000"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Engaged writers gain knowledge and experience as they read and write by continually activating and extending their understanding.  They apply knowledge to answer a new question or to solve a problem. 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Baker, Dreher, &amp; Guthrie, 2000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ABC8-16C2-4186-B4A4-FD404E59EC0A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000" y="1296720"/>
            <a:ext cx="8394840" cy="4777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7008"/>
                </a:solidFill>
                <a:latin typeface="Arial"/>
              </a:rPr>
              <a:t>Active Engagement &amp; Conceptual Knowledge</a:t>
            </a:r>
            <a:endParaRPr b="0" lang="en-US" sz="20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16080" y="3533760"/>
            <a:ext cx="78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When children are highly social, sharing their reading and writing frequently, they are likely to be active, interested learners.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33280" y="3046320"/>
            <a:ext cx="83948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7008"/>
                </a:solidFill>
                <a:latin typeface="Arial"/>
                <a:ea typeface="Arial"/>
              </a:rPr>
              <a:t>Active Engagement and Social Interactions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</p:txBody>
      </p:sp>
      <p:pic>
        <p:nvPicPr>
          <p:cNvPr id="149" name="Picture 5" descr="kids_reading250"/>
          <p:cNvPicPr/>
          <p:nvPr/>
        </p:nvPicPr>
        <p:blipFill>
          <a:blip r:embed="rId1"/>
          <a:stretch/>
        </p:blipFill>
        <p:spPr>
          <a:xfrm>
            <a:off x="7380360" y="190440"/>
            <a:ext cx="1481040" cy="1567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18960" y="4673520"/>
            <a:ext cx="7928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Engaged readers and writers use strategies for integrating information and communicating and representing their understanding.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Cognitive strategies are procedures that can help students succeed at higher-order tasks.  Some strategies are: Self-questioning, monitoring and summarizing.  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17520" y="4238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7008"/>
                </a:solidFill>
                <a:latin typeface="Arial"/>
                <a:ea typeface="Arial"/>
              </a:rPr>
              <a:t>Active Engagement and Thinking Skills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7000" y="1412640"/>
            <a:ext cx="8142120" cy="76500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7008"/>
                </a:solidFill>
                <a:latin typeface="Arial"/>
              </a:rPr>
              <a:t>Active Engagement and Motivation</a:t>
            </a:r>
            <a:endParaRPr b="0" lang="en-US" sz="2400" spc="-1" strike="noStrike">
              <a:solidFill>
                <a:srgbClr val="de7008"/>
              </a:solidFill>
              <a:latin typeface="Arial"/>
            </a:endParaRPr>
          </a:p>
        </p:txBody>
      </p:sp>
      <p:pic>
        <p:nvPicPr>
          <p:cNvPr id="153" name="Picture 49" descr="reading"/>
          <p:cNvPicPr/>
          <p:nvPr/>
        </p:nvPicPr>
        <p:blipFill>
          <a:blip r:embed="rId1"/>
          <a:srcRect l="0" t="23163" r="0" b="23163"/>
          <a:stretch/>
        </p:blipFill>
        <p:spPr>
          <a:xfrm>
            <a:off x="5859360" y="1916280"/>
            <a:ext cx="2940120" cy="1287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657360" y="2349360"/>
            <a:ext cx="574200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  <a:ea typeface="Arial"/>
              </a:rPr>
              <a:t>Factors affecting the development of intrinsic motivation in a school setting: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*  Level of challenge offered by tasks and materials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*  Quality and timing of feedback to students about heir work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*  Supports and scaffolds available to learners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Students</a:t>
            </a:r>
            <a:r>
              <a:rPr b="0" lang="ja-JP" sz="2000" spc="-1" strike="noStrike">
                <a:solidFill>
                  <a:srgbClr val="545454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 interest in tasks and content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Nature of the learning context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95280" y="5732640"/>
            <a:ext cx="817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54"/>
                </a:solidFill>
                <a:latin typeface="Arial"/>
                <a:ea typeface="Arial"/>
              </a:rPr>
              <a:t>Intrinsically motivated students tend to persist longer, work harder, actively apply strategies, and retain key information more consistently.</a:t>
            </a:r>
            <a:endParaRPr b="0" lang="en-US" sz="16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5651640" y="6083280"/>
            <a:ext cx="333504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7008"/>
                </a:solidFill>
                <a:latin typeface="Arial"/>
              </a:rPr>
              <a:t>Guthrie, McGough, et al., 1996; Guthrie &amp; Van Meter, et al., 1996</a:t>
            </a:r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pic>
        <p:nvPicPr>
          <p:cNvPr id="158" name="Content Placeholder 15" descr="six-thinking-hats-class-display.jpg"/>
          <p:cNvPicPr/>
          <p:nvPr/>
        </p:nvPicPr>
        <p:blipFill>
          <a:blip r:embed="rId1"/>
          <a:srcRect l="-7807" t="-11916" r="-5467" b="-3771"/>
          <a:stretch/>
        </p:blipFill>
        <p:spPr>
          <a:xfrm>
            <a:off x="625320" y="1219320"/>
            <a:ext cx="7917120" cy="56228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6"/>
          <p:cNvSpPr/>
          <p:nvPr/>
        </p:nvSpPr>
        <p:spPr>
          <a:xfrm>
            <a:off x="2556000" y="531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THINK, PAIR, SHARE</a:t>
            </a: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3" descr=""/>
          <p:cNvPicPr/>
          <p:nvPr/>
        </p:nvPicPr>
        <p:blipFill>
          <a:blip r:embed="rId1"/>
          <a:stretch/>
        </p:blipFill>
        <p:spPr>
          <a:xfrm>
            <a:off x="652320" y="2212920"/>
            <a:ext cx="8101080" cy="4035600"/>
          </a:xfrm>
          <a:prstGeom prst="rect">
            <a:avLst/>
          </a:prstGeom>
          <a:ln w="0">
            <a:noFill/>
          </a:ln>
        </p:spPr>
      </p:pic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71C3-2E8E-4F63-B987-B397F672350B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7008"/>
                </a:solidFill>
                <a:latin typeface="Arial"/>
              </a:rPr>
              <a:t>Active Engagement – HOW IT MIGHT LOOK…</a:t>
            </a:r>
            <a:br>
              <a:rPr sz="2400"/>
            </a:br>
            <a:r>
              <a:rPr b="0" lang="en-US" sz="2400" spc="-1" strike="noStrike">
                <a:solidFill>
                  <a:srgbClr val="de7008"/>
                </a:solidFill>
                <a:latin typeface="Arial"/>
              </a:rPr>
              <a:t>Approaches (BY)                  Strategies (THROUGH)</a:t>
            </a:r>
            <a:endParaRPr b="0" lang="en-US" sz="2400" spc="-1" strike="noStrike">
              <a:solidFill>
                <a:srgbClr val="de70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7008"/>
                </a:solidFill>
                <a:latin typeface="Arial"/>
              </a:rPr>
              <a:t>IN YOUR COOP LEARNING GROUPS: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57000" y="2212920"/>
            <a:ext cx="7916760" cy="416880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Everyone’s role is to be active and participating BUT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Still……number yourselves 1-4: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KAIWHAKAHAERE HANGANGA-materials manager; collect materials, return them, leave your workplace tidy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KAIWHAKAHAERE- organizer; keep team together, everyone on task, watch the time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KAIWHAKATAU HOIHOI-noise controller; quiet voices, don</a:t>
            </a:r>
            <a:r>
              <a:rPr b="0" lang="fr-FR" sz="2200" spc="-1" strike="noStrike">
                <a:solidFill>
                  <a:srgbClr val="545454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 disturb others, one speaker at a time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KAITATAKI-worrier; has everyone had their turn? is the final product the best we can do?  Can everyone pass the test?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01:49:05Z</dcterms:created>
  <dc:creator>Elaine Little</dc:creator>
  <dc:description/>
  <dc:language>en-US</dc:language>
  <cp:lastModifiedBy>Microsoft Office User</cp:lastModifiedBy>
  <cp:lastPrinted>2012-01-28T05:08:34Z</cp:lastPrinted>
  <dcterms:modified xsi:type="dcterms:W3CDTF">2012-01-28T05:45:59Z</dcterms:modified>
  <cp:revision>32</cp:revision>
  <dc:subject/>
  <dc:title>Presentation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8387227</vt:r8>
  </property>
  <property fmtid="{D5CDD505-2E9C-101B-9397-08002B2CF9AE}" pid="3" name="_AuthorEmail">
    <vt:lpwstr>elaine.little@edocs.co.nz</vt:lpwstr>
  </property>
  <property fmtid="{D5CDD505-2E9C-101B-9397-08002B2CF9AE}" pid="4" name="_AuthorEmailDisplayName">
    <vt:lpwstr>elaine.little@edocs.co.nz</vt:lpwstr>
  </property>
  <property fmtid="{D5CDD505-2E9C-101B-9397-08002B2CF9AE}" pid="5" name="_EmailSubject">
    <vt:lpwstr>Learning Media Powerpoint template</vt:lpwstr>
  </property>
</Properties>
</file>